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6776-2620-41F2-A4AE-9B4D706F97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3DD5-D9BD-40B2-B918-92877A147D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6A70-5896-415B-9003-C63B9125E3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CF42-69FF-48D3-AEBE-15A20431E3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50E3-51B7-4004-98DA-57C34E22BE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EC8C-DE69-4DE2-B820-B26AD9FD8C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B206-3C95-497F-925C-A4E8EBAD55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A7C0-EFD4-4763-B403-209767DB93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9BEC-9905-4DE2-AA47-3C1E48DE26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50A9-4248-4D9C-BDBE-0738BA6F13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7467-3216-4757-8F1F-AB9CDC33E4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D5FC-FB5E-454C-878E-2AE6830100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FD84-E76F-438C-BC35-8BFE4BF611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EFC2-75CF-4BC3-B2BF-63FBD40987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4C91-8F25-4B49-B13B-378EE9941F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BA26-3AA1-4941-88F3-6A071B8969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D9AA-316C-484A-B37C-9EE5E54B70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1CE1-5741-4CAC-B981-334F7961D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758B-88A1-4EFC-81D5-341D1CC2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D9D5-F366-4B6A-BAA1-042C8FBE5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B902-1243-4ECB-BDDA-3F2F2983E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76C1-4C20-416E-BE95-8DB08288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B3B2-4856-4313-A84C-98002E08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CF3E-53BF-4B9B-9917-696E9D0E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A4DF-2E7B-46E2-BF3A-A0A6EEF4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7252-CB1C-4CD9-B1CF-B951F05D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BCDA-4C7A-4748-A74E-3AC55499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CB3D-E0B0-4CE0-A398-B97248D1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3FB7-AC8B-4788-8BDA-93AA91AF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8D8C-954A-49B0-8C0A-72900D95F06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  <a:ea typeface="MS PGothic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MS PGothic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troduction to Financial Intelligence Units and the Money Laundering Off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ession 1.1.4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ther FIU responsibil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upervision of Money Laundering regulations/compli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ational Risk Assessment (FATF R.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money launder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lassically described as a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lac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ay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scribed by international l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arsaw/Palermo/Vienna conven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ATF Recommendation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SCUSSION: INTERNATIONAL STANDARDS (FINANCIAL ACTION TASK FOR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NCIAL INVESTIGATIONS AND THE MONEY LAUNDERING OFF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oney laundering and Financial Investig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04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ancial investigations (and criminal investigation) can lead to the identification of money laundering typologies for concealing the origin of money, and thus to the suspicion of a money laundering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offen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can allow the engagement of the Financial Intelligence Unit (FIU) and its powers can therefore be invok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spicious Transaction Report (STR) analysis conducted by a Financial Intelligence Unit (FIU) can also lead to the investigation of (predicate) offence and related proceed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such conditions are met,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U can be engaged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its powers can be invoked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ess to bank data (STR) domestically and abroad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alytical capabilit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ly suspend the bank transaction domestically and abroa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oney laundering and Financial Investig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1999800"/>
            <a:ext cx="822960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national legislation and jurisprudence (including relevant judgments)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the necessary elements for the criminal offence of Money Laundering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practice, is the result of a Financial Investigation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oney Laundering charge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the Money Laundering charge be more efficient than charging for the predicate offence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FIU data be used as evidence in criminal proceedings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US AND ONLINE CRIME PROCE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105228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se Study: Business Email Compromi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ctim contacted by emai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acker represents as being from an existing partner/suppli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ctim tricked into making transfer to incorrect accou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105228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se Study: Business Email Compromi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an FIU help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eze transaction to prevent onwards transfer of funds (possibly recover stolen fund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tional coope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wareness raising through circulation of business email compromise red flags/indicators to obliged entities (financial institution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mber: Time is of the essenc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3087360" y="4500720"/>
            <a:ext cx="298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ssion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plain the functions, responsibilities and powers of a Financial Intelligence Unit (FIU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nderstand the types of information that an FIU has access to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now how FIUs exchange informatio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e aware of the relevant international standard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plain the basic nature of the money laundering offenc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escribe the relevance of money laundering to a financial investigatio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rovide an example of how FIUs can help with cases involving online crime proceed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FI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eives and analyses suspected money laundering reports from the financial business that are regulated by AML (“obliged entities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 models of FIUs, they are not all the s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9.5% Administr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9.5% Law Enforc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% Judicial/Hybr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U access to other datab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EA intellig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cial secu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inan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dast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siness regi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ank accou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U Po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emporarily freeze bank accou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stpone or suspend trans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uthority given to continue trans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dministrative sanctions (some FIU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U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formation see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om your FI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om an overseas FIU – Egmont principles of information ex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gmont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l members foster the widest possible co-operation and exchange of information with other Egmont Group FIUs on the basis of reciprocity or mutual agreement and following the basic rules established in the Principle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ree exchange of information for purposes of analysis at FIU leve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 dissemination or use of the information for any other purpose without prior consent of the providing FIU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tection of the confidentiality of the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ontent Placeholder 3" descr=""/>
          <p:cNvPicPr/>
          <p:nvPr/>
        </p:nvPicPr>
        <p:blipFill>
          <a:blip r:embed="rId1"/>
          <a:stretch/>
        </p:blipFill>
        <p:spPr>
          <a:xfrm>
            <a:off x="2624040" y="2276640"/>
            <a:ext cx="391788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U-FIU coop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gmont secure web (ES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U FIU.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me FIUs host the CARIN/ARO func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CHICU Mariana</cp:lastModifiedBy>
  <cp:lastPrinted>2016-05-18T07:38:13Z</cp:lastPrinted>
  <dcterms:modified xsi:type="dcterms:W3CDTF">2017-05-16T09:15:36Z</dcterms:modified>
  <cp:revision>349</cp:revision>
  <dc:subject/>
  <dc:title>PowerPoint Presentation</dc:title>
</cp:coreProperties>
</file>